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DF4-A1F9-4282-A048-CB73EC22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D17-51F2-4F33-B3A0-37045DA6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C55-0ABD-4F48-BD53-655CDA93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33D-CF85-4682-87A8-C5824FC0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F6D-F99E-4118-A535-80BC7BC9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2758-E225-4C68-AC26-14C6FA9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088-31C1-46F2-9220-AF23AC01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C397-76E7-4A58-8116-D2D1BAAA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9EF2-4334-471A-ACDE-9959A9CD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765C-4BEB-492A-B21B-C4640EF1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EDF7-FB7C-4FB5-9CCA-56683829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6E8-1EAE-40A2-8999-547258D5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A9CB-AF59-4092-B05A-3C361321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5040-6B86-41D8-8A3E-8B3F67B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CCA7-016F-428A-8ABF-78E6C9D7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A8FC-B56A-4DE7-9E7F-70433310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552A-8DF3-4DD0-8AD6-98C57BEE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1F3-17DA-42D5-BA1E-F487161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780-16BB-4654-AC21-6F4C560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81C-147E-41AF-AAE5-449F6E1C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397-A3F8-4F45-A1DD-EEF2EA2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2A12-6708-40B1-B2C1-A1EB945F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7A1-B173-47C4-B1CF-CBB25ED9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BA6-31B2-4DD2-8175-9CDEC090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9757-E36A-4AA5-9E87-BD7A58710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2CF9-1382-4EF0-872A-4C18CF325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nimal Adaptat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Remember!!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better adapted to their environment are better able to survive and pass on their traits to their offspr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vival of the Fittest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amoufl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adap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species to blend in with their surroun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a species to avoid detection by pred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ning Color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rs that “warn” possible predators to “stay away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, Black, O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mic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adap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ables one species to resemble another spec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provide protection from predators or provide other advan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mless species looks like a harmful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91040" y="2722680"/>
            <a:ext cx="335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sour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es of Interactions Within Ecosystems. United Learning. 2006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busher: Praying Mantis. Classroom Media. 2000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onships Between Populations: Predator-Prey. Aims Multimedia. 1996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tation (MLA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ploring the Diversity of Life: Not What They Seem. Environmental Media. 1998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covery Education. 11 May 2009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ttp://streaming.discoveryeducation.com/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2:38:01Z</dcterms:created>
  <dc:creator>Clear Creek ISD</dc:creator>
  <dc:description/>
  <dc:language>en-US</dc:language>
  <cp:lastModifiedBy>Clear Creek ISD</cp:lastModifiedBy>
  <dcterms:modified xsi:type="dcterms:W3CDTF">2009-05-11T17:23:54Z</dcterms:modified>
  <cp:revision>4</cp:revision>
  <dc:subject/>
  <dc:title>Animal Adaptations</dc:title>
</cp:coreProperties>
</file>